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A8FE-A14C-46B5-86E1-51EA8DE0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FD3-16DE-4AB6-A87C-C9191543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DEC-368E-42BB-B972-A213D321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9D4-62B6-408A-A32D-778B31E9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55B1-C919-4A0B-A4EB-F1272604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8ED8-AC2F-48AA-9101-D6CE481A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F9C5-EAEA-4F41-AEC6-2A9E4D7D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6E0D-5830-45DA-B4A1-BDCE2501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4392-B46F-4632-B927-1A06EAF4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233A-0F1A-47C1-AFA9-5C33BB24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6EB3-DC00-463D-BC11-C52FC2F8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884-B38D-4871-B2BB-7A7F79CC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04E8-536E-4E05-9392-60FD797E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EE59-88E1-4D29-ABE8-9A1CFB5A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F81D-A63F-480B-A674-BBA20709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529E-3C1D-4E50-A78B-37D5A4DE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87B0-EA9F-4AAB-BF2D-DC1AA146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C8A-9CD1-47E3-A6BC-504085C5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6FB-3AF3-448F-887F-C64A2640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FCA-E9F3-432A-8BCD-92CD1130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D2D-1175-43CD-8F8D-C6F44135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2BD-8921-4615-A91C-2176DD92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D706-D90C-40BC-992A-4136957A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9AF-E638-440A-85FF-0A735533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82ED-FF1F-43EA-B449-2E43571ECD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B807-B46F-46E0-9EA5-8CD7E6B732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85920" y="27734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MIERZENIE KĄTÓW. MIARA KĄ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OMIERZ – PRZYRZĄD DO MIERZENI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052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5184720"/>
            <a:ext cx="60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stawową jednostką miary je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stopie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 symbolicznie zapisujemy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22360" y="1938240"/>
            <a:ext cx="4770720" cy="297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46280" y="4869000"/>
            <a:ext cx="41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http://amar.waw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IARY 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71640" y="1390680"/>
            <a:ext cx="3286080" cy="203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246480"/>
            <a:ext cx="3014640" cy="1749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27000" y="5037120"/>
            <a:ext cx="2835360" cy="1820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85920" y="104292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ra kąta prost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46640" y="284328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ra kąta ostr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468936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ra kąta rozwart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62360" y="5543640"/>
            <a:ext cx="53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ątomierzem zmierzono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ąt 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      Przy mierzeniu kąta skorzystano z podziałki wewnętrznej.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jest równa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30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co symbolicznie zapisujemy: </a:t>
            </a: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|</a:t>
            </a:r>
            <a:r>
              <a:rPr b="1" lang="en-US" sz="1200" spc="-1" strike="noStrike">
                <a:solidFill>
                  <a:srgbClr val="6600ff"/>
                </a:solidFill>
                <a:latin typeface="Symbol"/>
                <a:ea typeface="Symbol"/>
              </a:rPr>
              <a:t></a:t>
            </a: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| = 130</a:t>
            </a:r>
            <a:r>
              <a:rPr b="1" lang="en-US" sz="1200" spc="-1" strike="noStrike">
                <a:solidFill>
                  <a:srgbClr val="6600ff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808280"/>
            <a:ext cx="40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ątomierzem zmierzono ką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pros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ara kąta prostego jest równa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90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6640" y="3743280"/>
            <a:ext cx="49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ątomierzem zmierzono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ąt 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zy mierzeniu kąta skorzystano z podziałki zewnętrznej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jest równa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co symbolicznie zapisujemy: </a:t>
            </a: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|</a:t>
            </a:r>
            <a:r>
              <a:rPr b="1" lang="en-US" sz="1200" spc="-1" strike="noStrike">
                <a:solidFill>
                  <a:srgbClr val="6600ff"/>
                </a:solidFill>
                <a:latin typeface="Symbol"/>
                <a:ea typeface="Symbol"/>
              </a:rPr>
              <a:t></a:t>
            </a:r>
            <a:r>
              <a:rPr b="1" lang="en-US" sz="1200" spc="-1" strike="noStrike">
                <a:solidFill>
                  <a:srgbClr val="6600ff"/>
                </a:solidFill>
                <a:latin typeface="Arial"/>
              </a:rPr>
              <a:t>| = 30</a:t>
            </a:r>
            <a:r>
              <a:rPr b="1" lang="en-US" sz="1200" spc="-1" strike="noStrike">
                <a:solidFill>
                  <a:srgbClr val="6600ff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85920" y="1989000"/>
            <a:ext cx="70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streg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st większa o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mniejsza o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85920" y="3032280"/>
            <a:ext cx="58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steg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st rów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85920" y="396864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ra kąt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zwarteg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st większa o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mniejsza o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44:06Z</dcterms:modified>
  <cp:revision>10</cp:revision>
  <dc:subject/>
  <dc:title>Slajd 1</dc:title>
</cp:coreProperties>
</file>